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084-2335-419E-9F17-EDE55621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5F0-2199-4B7F-80AB-7DEF3301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704-A8E8-4460-8A61-17292F3A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50B-BB0D-4A7C-80F6-00FBD6E8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5D8E-200E-4BFE-A195-7AE19CA0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87C6-AAC8-4172-8375-D43857F8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04F6-25F5-4B80-8347-7BAF3C4D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12E4-12B2-418B-B45A-55EE5F8C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56A6-B688-4F75-B056-3731A973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6599-541F-4FC5-80A9-3CF512DA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B546-B646-486F-B5B2-01ADFAB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1B4-8180-4649-B232-365A4D6D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7CA8-DD77-4750-B42C-6D61901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4DEA-2B45-4C6E-8422-59E36ACF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D7FD-B79C-420E-85EE-A77803CF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C041-EE46-4F37-9C9D-48CF1A0C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63E0-3B79-4292-96E5-29B074A4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347-F923-4714-8BCC-B481F30B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FAF-9FCF-466A-9879-0124B8FB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DC1-D8C4-441F-85ED-DE2B49BA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72D-1447-4F0D-B5C4-1C45B9A6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566-68AA-493E-8CBD-92CF7C1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6B9-4471-46DE-A27A-B7283E9E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996-EFD1-446D-8B3C-9082E692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47CC-C0AC-4393-956F-E97D19E60745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58EF-01D3-40AD-BC05-CA799520DDC4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451A-A9C1-498F-8FD7-EA7CC6915E20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ffff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9A17-E57A-42D2-A2C1-B1725908EFEF}" type="slidenum">
              <a:rPr b="1" lang="tr-TR" sz="24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22jv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340000" y="1916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İM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2222-C62D-4CA9-90A4-F9FC9469E9A1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20648733zr0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983880" y="26136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66ff"/>
                </a:solidFill>
                <a:latin typeface="Arial"/>
                <a:ea typeface="Times New Roman"/>
              </a:rPr>
              <a:t>Birinci Mertebe: İlim</a:t>
            </a:r>
            <a:r>
              <a:rPr b="0" lang="tr-T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95280" y="1268280"/>
            <a:ext cx="68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’ın olmuş ve olaca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mamış şeyler eğer olacak ol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sıl olacaklarını, geneliy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bütün incelikleriyle bildiğine iman etmektir.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BC7F-7015-4ACA-9A4F-F51061F199BC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57451686hl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826920" y="1268280"/>
            <a:ext cx="66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kulların neler yapacakların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ı yaratmadan önce bildiği gib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ın rızıklarının, ecellerinin, amellerin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areket ya da hareketsizlikleri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nceliklerini de bil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dan kimin mutl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imin bedbaht olduğunu da bil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bütün bunları ezelden be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ıfatı olan kadim ilmiyle b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CB03-A97F-4087-8645-D1CAC066AD2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98723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1692360" y="907920"/>
            <a:ext cx="4572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</a:rPr>
              <a:t> اِنَّ اللّٰهَ بِكُلِّ شَیْءٍ عَليم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”</a:t>
            </a: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Şüphesiz Allah her</a:t>
            </a:r>
            <a:r>
              <a:rPr b="0" lang="tr-TR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şey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çok iyi bilendir.”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ccff"/>
                </a:solidFill>
                <a:latin typeface="Calibri"/>
              </a:rPr>
              <a:t>(et-Tevbe, 9/1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alibri"/>
              </a:rPr>
              <a:t>diye buyurmakta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EFB5-EAC9-4119-B363-2CCF748E311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584355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2880" y="-144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ff"/>
                </a:solidFill>
                <a:latin typeface="Arial"/>
                <a:ea typeface="Times New Roman"/>
              </a:rPr>
              <a:t>İkinci Mertebe: Yazm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3348000" y="189000"/>
            <a:ext cx="57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da yüce Allah’ın mahlukat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leri ile ilgili olarak ez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ldiğini Levh-i mahfuz’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mış olduğuna iman etmek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Levh-i mahfuz ise hiçbir şey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ksik bırakılmaksızın tamami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ıldığı kitab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miş, ge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Ve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kıyamet gününe k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lacak herşey yüce Allah’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nezdinde Ümmü’l-kitab’ta yazıl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94D-2236-4E6F-A35B-50055586B7D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8761084cm1"/>
          <p:cNvPicPr/>
          <p:nvPr/>
        </p:nvPicPr>
        <p:blipFill>
          <a:blip r:embed="rId1"/>
          <a:stretch/>
        </p:blipFill>
        <p:spPr>
          <a:xfrm>
            <a:off x="0" y="0"/>
            <a:ext cx="8964720" cy="6811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179280" y="-27000"/>
            <a:ext cx="56167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Buna ez-Zikr, el-İma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l-Kitabu’l-müb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dları da ver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كُلَّ شَیْءٍ اَحْصَيْنَاهُ فى اِمَامٍ مُبين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Biz her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 şeyi İmam-ı mübin’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(önder kitabta) tesbit etmişiz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Yasin, 36/1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0C1D-3015-4E3D-B174-4978916F373B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59815215v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"/>
          <p:cNvSpPr/>
          <p:nvPr/>
        </p:nvSpPr>
        <p:spPr>
          <a:xfrm>
            <a:off x="721440" y="2149560"/>
            <a:ext cx="703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Peygamber </a:t>
            </a:r>
            <a:r>
              <a:rPr b="0" i="1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’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şöyle buyurmuştu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Allah’ın ilk yarattığı şey kalemdir. On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Yaz diye buyurd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, ne yazayım? diye sorunc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kaderi ya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lanı ve ebediyete ka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lacak olanı yaz diye buyurdu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B5AB-FFEE-4BC4-B793-57E7BB6BF52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antalyaresimlerialp8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30240" y="-144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Üçüncü Mertebe: İrade ve Meşîet (Dile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620640"/>
            <a:ext cx="58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ni bu kâinatta meydana 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şey rahmet ve hik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özellikleri ile Allah’ın i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meşîeti ile meydana ge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76720" y="4179960"/>
            <a:ext cx="58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, dilediğini rahmetiyle hidayete ilet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dilediğini hikmeti ile saptır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ikmet ve egemenliği eksiks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lduğundan dolayı, yaptık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akkında Ona soru sorulma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ancak yaratılmışlara sorul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36E8-33AB-43F7-86A0-F9E31C28613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antalyaresimlerialp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179280" y="0"/>
            <a:ext cx="612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Bu kabilden meydana 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bir şey Allah’ın Levh-i mahfuz’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yazılı ve ezelî ilmine uygund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Allah’ın meşieti gerçekleş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kudreti de her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şeyi kaps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’nun dilediği olur, dilemediği ol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içbir şey O’nun iradesi dışında değil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07BF-F365-4523-B84F-D5795DAFCCA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antalyaresimlerialp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208800" y="2131920"/>
            <a:ext cx="562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itekim 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مَا تَشَاؤُنَ اِلَّا اَنْ يَشَاءَ اللّٰهُ رَبُّ الْعَالَمي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Âlemlerin Rabbi olan Allah dile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dileyemezsiniz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t-Tekvîr, 81/2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B2D2-49E8-4395-BFA2-4E8700FEA781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antalyaresimlerialp19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317160" y="1049760"/>
            <a:ext cx="63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eygamber </a:t>
            </a:r>
            <a:r>
              <a:rPr b="0" i="1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öyle buyurmuştu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Bütün Ademoğullarının kalbl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Rahman’ın parmaklarının ikisi arasın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dilediği gibi evirip çevirdiği tek bir kalb gibid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69F9-083C-41D2-BF6E-9AD021F271E4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4rn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900000" y="2708280"/>
            <a:ext cx="612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hl-i sünnet ve’l-cemaat her hay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şerrin Allah’ın kaza ve kaderi 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diğine, Allah’ın diled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 şeyi yaptığına kesin olarak inanır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 O’nun iradesi ile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içbir şey O’nun dilemesi(meşî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tedbiri dışına çıkama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olmuş ve olacak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madan önce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zelden beri 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027B-66E8-47D4-A4B3-FB1B01DDEF2C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antalyaresimlerialp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8280" y="-144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ördüncü Mertebe: Yaratm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79280" y="1700280"/>
            <a:ext cx="61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Yüce Allah’ın her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şeyin yaratıcı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olduğuna inanmak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dan başka bir yaratıc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dışında bir Rab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dışında her ne varsa yaratıl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amelde bulunan herk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onun amelini, hareket e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varlığı ve hareketini yaratan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485D-6791-49D0-B5FC-49F5A00791BB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cascadeheadoregonw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79280" y="2429640"/>
            <a:ext cx="59054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خَلَقَ كُلَّ شَیْءٍ فَقَدَّرَهُ تَقْديرً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Herşeyi yaratıp onu inceden incey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takdir ve tayin etmişt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l-Furkan, 25/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1B30-05D8-4ADF-B319-3A12119BC401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arkaplan%20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484560" y="321480"/>
            <a:ext cx="705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Hayır ve şer türünden iman ve küfü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itaat ve masiyet kabilin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meydana gelen her bir şeyi Allah dilemişt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takdir etmiştir ve yaratmış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224640" y="3271320"/>
            <a:ext cx="6119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مَا كَانَ لِنَفْسٍ اَنْ تُؤْمِنَ اِلَّا بِاِذْنِ اللّٰه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Allah’ın izni olmadan hiçbir kimse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iman etmesi mümkün değild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Yunus, 10/100);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9747-BE31-4A24-AAC3-E49593E61E8A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china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13680" y="9720"/>
            <a:ext cx="689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tek başına yaratıp var ed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, istisnasız herşeyin yaratıcısıdı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’ndan başka bir yaratıc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’nun dışında bir Rab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4722840" y="3942000"/>
            <a:ext cx="40258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اَللّٰهُ خَالِقُ كُلِّ شَیْء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هُوَ عَلٰى كُلِّ شَیْءٍ وَكيل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 herşeyin yaratıcısı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O herşeye vekild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Calibri"/>
              </a:rPr>
              <a:t>(ez-Zümer, 39/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CDC2-A84C-4ADE-B812-8B0C328F714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doga32yf3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3742920" y="756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itaati se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masiyetten hoşlan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lediği kimseyi lütfuyla hidayete ileti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lediği kimseyi de adaletiyle sapt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itekim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3979080" y="4559400"/>
            <a:ext cx="580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ْ تَكْفُرُوا فَاِنَّ اللّٰهَ غَنِىٌّ عَنْكُم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يَرْضٰى لِعِبَادِهِ الْكُفْر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اِنْ تَشْكُرُوا يَرْضَهُ لَكُم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تَزِرُ وَازِرَةٌ وِزْرَ اُخْرٰ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ثُمَّ اِلٰى رَبِّكُمْ مَرْجِعُكُمْ فَيُنَبِّئُكُمْ بِمَا كُنْتُمْ تَعْمَلُون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َّهُ عَليمٌ بِذَاتِ الصُّدُور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157B-89FE-4CCB-B6F3-5F215ADFEF0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bur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3201840" y="0"/>
            <a:ext cx="59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Eğer inkâr ederseni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şüphesiz Allah, size muhtaç değil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Ama O, kullarının küfrüne razı ol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Eğer şükrederseniz sizin için bunu kabul e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Hiçbir günahkâr diğerinin günahını çekm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Nihayet hepinizin dönüp gidişi, Rabbiniz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Yaptıklarınızı O, size haber ver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Çünkü O, kalplerde olan herşey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hakkıyla bilendir.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600" spc="-1" strike="noStrike">
                <a:solidFill>
                  <a:srgbClr val="ffff00"/>
                </a:solidFill>
                <a:latin typeface="Calibri"/>
              </a:rPr>
              <a:t>(ez-Zümer, 39/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E532-4EDD-4AA8-8248-B6F897D50BEA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Orm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324000" y="0"/>
            <a:ext cx="575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saptırdığı kimsenin i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ürecek herhangi bir del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 da bir mazereti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Çünkü yüce Allah ileri sürü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bahane kalmasın di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peygamberler göndermiş ve kul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şlediği ameli ona izafe edere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u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un kazancı olarak takdir etmi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ancak gücünün yettiği şeyler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 yükümlü tutmuş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86C1-5EF3-423D-8AA5-55F071D152F8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sea_29_ziza_159394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2124000" y="189000"/>
            <a:ext cx="4176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alibri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اَلْيَوْمَ تُجْزٰى كُلُّ نَفْسٍ بِمَا كَسَبَت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لَا ظُلْمَ الْيَوْ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0" y="5396040"/>
            <a:ext cx="38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ffff"/>
                </a:solidFill>
                <a:uFillTx/>
                <a:latin typeface="Calibri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Bugünde herk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kazandığının karşılığı ver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Bugün asla zuülm yoktur</a:t>
            </a:r>
            <a:r>
              <a:rPr b="0" i="1" lang="tr-TR" sz="2400" spc="-1" strike="noStrike" u="sng">
                <a:solidFill>
                  <a:srgbClr val="00ffff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00"/>
                </a:solidFill>
                <a:latin typeface="Calibri"/>
              </a:rPr>
              <a:t>(el-Mu’min, 40/17)</a:t>
            </a:r>
            <a:r>
              <a:rPr b="0" lang="tr-TR" sz="1800" spc="-1" strike="noStrike">
                <a:solidFill>
                  <a:srgbClr val="ffff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C85C-A09A-4522-B71C-5ACC1665786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reefblogcu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0" y="-3240"/>
            <a:ext cx="68770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Fakat yüce Allah’ın rahmetinin </a:t>
            </a:r>
            <a:r>
              <a:rPr b="0" lang="tr-TR" sz="2400" spc="-1" strike="noStrike">
                <a:solidFill>
                  <a:srgbClr val="6600cc"/>
                </a:solidFill>
                <a:latin typeface="Arial"/>
                <a:ea typeface="Times New Roman"/>
              </a:rPr>
              <a:t>kemali dolayısıyla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 O’na nisbet edilm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O hayrı emretmiş olmakla birlik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ri yasaklamış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 ancak O’nun takdi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hikmeti ile meydana ge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مَا اَصَابَكَ مِنْ حَسَنَةٍ فَمِنَ اللّٰه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مَا اَصَابَكَ مِنْ سَيِّئَةٍ فَمِنْ نَفْسِك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Sana gelen her iyilik Allah’tan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Sana gelen her fenalık da kendindendir</a:t>
            </a:r>
            <a:r>
              <a:rPr b="0" i="1" lang="tr-TR" sz="13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n-Nisa, 4/7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5F80-DE25-4946-AE83-236FA9402247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Guzel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79280" y="1409400"/>
            <a:ext cx="540072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</a:t>
            </a:r>
            <a:r>
              <a:rPr b="0" lang="tr-TR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zulümden münezzehtir,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 adalet sıfatına sahib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Kimseye zerre ağırlığı kad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ahi zulmetm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’nun bütün fiill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dalettir ve rahmet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َّ اللّٰهَ لَا يَظْلِمُ مِثْقَالَ ذَرَّة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Muhakkak All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zerre ağırlığı kadar dahi zulmetmez</a:t>
            </a:r>
            <a:r>
              <a:rPr b="0" i="1" lang="tr-TR" sz="24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n-Nisa, 4/4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074B-D5F8-40F0-B066-C81080075B0F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9gm0j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1619280" y="3357720"/>
            <a:ext cx="60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zeli ilminin gereğine ve hikme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uygun olarak meydana ge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ütün kâinat için kader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miktarlar tayin etmiş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larının hallerini, rızıkların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cellerini, ameller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daha başka diğer hallerini bilmiş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D87E-13B1-4F4C-9F79-B8FBC8EC140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nzg4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789120" y="186120"/>
            <a:ext cx="5513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yrıca yüce Allah’a yaptıkların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dilediklerinden dolayı soru soru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O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cc"/>
                </a:solidFill>
                <a:latin typeface="Calibri"/>
                <a:cs typeface="Times New Roman"/>
              </a:rPr>
              <a:t>لَا يُسْپَلُ عَمَّا يَفْعَلُ وَهُمْ يُسْپَلُو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O yaptığından sorumlu tutula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Halbuki onlar sorguya çekilecekt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(el-Enbiya, 21/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1E87-9239-42D2-A26D-7E972FCA293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reefblogcu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1332000" y="1844640"/>
            <a:ext cx="66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halde insanı ve fiillerini yara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’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a bir irade, bir kudre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tercih ve bir dileme gücü vermişt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 bunu mecazi anlamıyla değil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erçek anlamıyla fiillerini yapan kend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sun diye insana bağışla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21A6-3742-40AE-B031-9FD4327142F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reefblogcu8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"/>
          <p:cNvSpPr/>
          <p:nvPr/>
        </p:nvSpPr>
        <p:spPr>
          <a:xfrm>
            <a:off x="2951280" y="374976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onra da ona hayır ile şerri birbir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yırdedecek bir akıl vermiş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cak irade ve tercihi ile yaptı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melleri dolayısı ile hesaba çekecek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nsan mecbur değild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ksine onun kendi irad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tercihi v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85B9-B3D3-4D5F-A88E-592217D6641A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reefblogcu5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179280" y="4179960"/>
            <a:ext cx="69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la fiilerini ve inançlarını tercih e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u kadarı var ki iradesi itibari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iradesine tabi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dilediği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 ol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ilemediği hiçbir şey olma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ların fiillerini yaratan yüce Allah’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C297-DECD-4557-89C4-D75365EEC32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reefblogcu14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179280" y="4179960"/>
            <a:ext cx="54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fiilleri işleyen de kull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halde bu fiiler yaratılmalar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ar edilmeleri ve tak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dilmeleri itibari ile Allah’t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iil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kazanım olmaları itibariyl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a aittir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732F-CBCE-4278-928F-6A641D83910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reefblogcu16b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"/>
          <p:cNvSpPr/>
          <p:nvPr/>
        </p:nvSpPr>
        <p:spPr>
          <a:xfrm>
            <a:off x="-388800" y="196200"/>
            <a:ext cx="60084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اِنْ هُوَ اِلَّا ذِكْرٌ لِلْعَالَمٖي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لِمَنْ شَاءَ مِنْكُمْ اَنْ يَسْتَقٖي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وَمَا تَشَاؤُنَ اِلَّا اَنْ يَشَاءَ اللّٰهُ رَبُّ الْعَالَمٖي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2818080" y="4922280"/>
            <a:ext cx="63284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O ancak âlemlere bir öğüttü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aranızdan dosdoğru yolda gitmek isteyenl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Âlemlerin Rabbi olan Allah dile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dileyemezsiniz</a:t>
            </a:r>
            <a:r>
              <a:rPr b="0" lang="tr-TR" sz="1600" spc="-1" strike="noStrike">
                <a:solidFill>
                  <a:srgbClr val="00ffff"/>
                </a:solidFill>
                <a:latin typeface="Arial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t-Tekvîr, 81/28-2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60E2-3687-49A9-8C03-C413DAD5E12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sea_20_ziza_812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"/>
          <p:cNvSpPr/>
          <p:nvPr/>
        </p:nvSpPr>
        <p:spPr>
          <a:xfrm>
            <a:off x="0" y="48240"/>
            <a:ext cx="493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kaderi delil gösterer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سَيَقُولُ الَّذينَ اَشْرَكُو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لَوْ شَاءَ اللّٰه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مَا اَشْرَكْنَا وَلَا اٰبَاؤُنَ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حَرَّمْنَا مِنْ شَیْء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Allah dileseydi biz 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babalarımız da ortak koşmazdı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Hiçbir şeyi de haram kılmazdık.”</a:t>
            </a:r>
            <a:r>
              <a:rPr b="0" lang="tr-T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En’am-1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3924360" y="4973400"/>
            <a:ext cx="49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diyen müşriklerin söyledikleri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kabul etmeyer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devamında şu buyruklarıy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onların yalanlarını reddetmekted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55E5-8EB5-4DBD-8A11-C2B37CF3089B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reefblogcu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"/>
          <p:cNvSpPr/>
          <p:nvPr/>
        </p:nvSpPr>
        <p:spPr>
          <a:xfrm>
            <a:off x="2411280" y="3571920"/>
            <a:ext cx="633600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قُلْ هَلْ عِنْدَكُمْ مِنْ عِلْمٍ فَتُخْرِجُوهُ لَنَ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اِنْ تَتَّبِعُونَ اِلَّا الظَّنّ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اِنْ اَنْتُمْ اِلَّا تَخْرُصُو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:”De ki: Yanınızda bize çıkartı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gösterebileceğiniz, herhangi bir bilgi var mı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ancak zanna uyuyorsunu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ve siz yalnızca yalan uyduruyorsunuz.”</a:t>
            </a:r>
            <a:r>
              <a:rPr b="0" i="1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l-En’âm, 6/14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C854-63B8-4708-896C-C5254136F36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reefblogcu7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3349440" y="4017240"/>
            <a:ext cx="577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hl-i sünnet ve’l-cemaat kade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llah’ın yarattıklarında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r sırrı olduğuna inan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na ne mukarrab bir mel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e mürsel bir peygamber muttali değil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u hususta çokça derine dalm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uzun boylu düşünmek sapıklık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EABD-A151-48CE-B729-871F39543D9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reefblogcu3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31320" y="195480"/>
            <a:ext cx="674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yüce Allah kader bilgisini yarattıkların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aklı tutmuş ve onun nihai maksadın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lmeye kalkışmalarını yasaklamış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3210120" y="4947840"/>
            <a:ext cx="5109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Arial"/>
              </a:rPr>
              <a:t>لَا يُسْپَلُ عَمَّا يَفْعَلُ وَهُمْ يُسْپَلُو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O işlediklerinden sorumlu tutul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Halbuki onlara sorulur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ccff"/>
                </a:solidFill>
                <a:latin typeface="Arial"/>
                <a:ea typeface="Times New Roman"/>
              </a:rPr>
              <a:t>(el-Enbiya,</a:t>
            </a:r>
            <a:r>
              <a:rPr b="0" i="1" lang="tr-TR" sz="1300" spc="-1" strike="noStrike" u="sng">
                <a:solidFill>
                  <a:srgbClr val="ffccff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ccff"/>
                </a:solidFill>
                <a:latin typeface="Arial"/>
                <a:ea typeface="Times New Roman"/>
              </a:rPr>
              <a:t>21/23)</a:t>
            </a:r>
            <a:r>
              <a:rPr b="0" lang="tr-TR" sz="13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ye buyurmakta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186A-D637-47F9-8E36-6B7BE238BFB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0gi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0" y="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en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yeni ş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ilim, kudret ve irad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le meydana ge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man özetl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4030560" y="504180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bede kadar meydana ge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an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e dair Allah’ın ezel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lgisi ile Kalemin bu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dığına inanmaktır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0282-F3B3-4E24-83B4-7A28E65B05E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manzara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30600" y="195480"/>
            <a:ext cx="507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hl-i sünnet ve’l-cemaat kendiler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muhalefet eden sapık fırka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’ın şu buyruğu 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tab eder ve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delil gösterirl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3689280" y="4160520"/>
            <a:ext cx="53974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قُلْ كُلٌّ مِنْ عِنْدِ اللّٰه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فَمَالِ هٰؤُلَاءِ الْقَوْم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لَا يَكَادُونَ يَفْقَهُونَ حَدٖيثًا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De ki: Hepsi Allah’tan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Böyle iken bunlara ne oluyor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hiçbir sözü anlamaya yanaşmıyorlar?”</a:t>
            </a:r>
            <a:r>
              <a:rPr b="0" lang="tr-T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n-Nisa, 4/7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B4FB-AAB5-49CD-8DC2-E7317845DA4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ilkbahar-manzarasi-resmi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693720" y="196560"/>
            <a:ext cx="756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İşte ashab, tabiîn ve kıyamet gününe ka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onlara güzel bir şekilde uy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selef-i salih’in iman ettikleri hususlar bunl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Yüce Allah hepsinden razı ol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0266-857A-47E6-BCC5-7660972C1B8A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57120" y="4441320"/>
            <a:ext cx="82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6600" spc="-1" strike="noStrike">
                <a:solidFill>
                  <a:srgbClr val="00ffff"/>
                </a:solidFill>
                <a:latin typeface="Arial"/>
              </a:rPr>
              <a:t>والحمد لله رب العالم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1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395280" y="3244320"/>
            <a:ext cx="648036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سُنَّةَ اللّٰهِ فِى الَّذينَ خَلَوْا مِنْ قَبْلُ</a:t>
            </a:r>
            <a:r>
              <a:rPr b="0" lang="ar-SY" sz="2800" spc="-1" strike="noStrike">
                <a:solidFill>
                  <a:srgbClr val="00ffff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كَانَ اَمْرُ اللّٰهِ قَدَرًا مَقْدُورًا</a:t>
            </a: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Önce gelip geçenler arasında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’ın sünneti böyley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’ın emri mutlaka yerini bulan bir kaderdir.”</a:t>
            </a:r>
            <a:r>
              <a:rPr b="0" i="1" lang="tr-TR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el-Ahzab, 33/38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E12E-2733-498F-B206-AEBC13C5583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24y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624960" y="468360"/>
            <a:ext cx="419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</a:rPr>
              <a:t>اِنَّا كُلَّ شَیْءٍ خَلَقْنَاهُ بِقَدَرٍ</a:t>
            </a:r>
            <a:r>
              <a:rPr b="0" lang="ar-SY" sz="24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Çünkü biz her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şeyi bir takdir,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ölçü ve deng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yarattık.”</a:t>
            </a:r>
            <a:r>
              <a:rPr b="0" lang="tr-T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l-Kamer, 54/4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C869-C017-48EA-8477-F947D857057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antalyaresimlerialp1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34920" y="2160"/>
            <a:ext cx="56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Peygamber </a:t>
            </a:r>
            <a:r>
              <a:rPr b="0" i="1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şöyle buyurmuştur:</a:t>
            </a:r>
            <a:r>
              <a:rPr b="0" lang="tr-TR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3348360" y="3476160"/>
            <a:ext cx="564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Bir kimse kadere hayrı ile şerri 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Allah’tan geldiğine iman etmedikç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kendisine gelip isabet eden bir şey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lip çatmamasının imkânsız olduğu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ve kendisini gelip bulmayan bir şey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kendisine isabet etmesini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imkânsız olduğunu kesinlikle bil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hiçbir kul iman etmiş olmaz.”</a:t>
            </a:r>
            <a:r>
              <a:rPr b="0" lang="tr-TR" sz="24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82E5-F430-4523-AE2B-56DFF63D0A0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36336686fh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0" y="0"/>
            <a:ext cx="61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hl-i sünnet derler ki: Kadere i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cak dört husus ile tamam ol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a da kaderin mertebel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a esasları adı ver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hususla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 meseles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lamanın yolud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0" y="422100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man ise, bütün esas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erçekleştirilmedikçe tamam ol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Çünkü bunların bir kısmı diğerine bağ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0756-C528-4848-B0D4-93B86C398318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5038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179280" y="18900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ın hepsini kabul e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kimsenin kadere imanı tamam ol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dan birisini yahut daha fazlasın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ksik bırakanın ise kadere iman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rsıntı meydana gelir</a:t>
            </a:r>
            <a:r>
              <a:rPr b="0" lang="tr-TR" sz="2800" spc="-1" strike="noStrike" u="sng">
                <a:solidFill>
                  <a:srgbClr val="ffff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0455-1857-422E-8702-9412AAA771BA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03:24:09Z</dcterms:created>
  <dc:creator>mnm</dc:creator>
  <dc:description/>
  <dc:language>en-US</dc:language>
  <cp:lastModifiedBy>mnm</cp:lastModifiedBy>
  <dcterms:modified xsi:type="dcterms:W3CDTF">2011-03-30T15:09:13Z</dcterms:modified>
  <cp:revision>129</cp:revision>
  <dc:subject/>
  <dc:title>Slide 1</dc:title>
</cp:coreProperties>
</file>