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77F-CF11-4ED1-B12B-328E6134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DE0-6962-405F-8878-D2773CF5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CC4-26D0-478B-9C19-F5479C42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BB7-27E3-41FA-AD65-23084591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72DD-21D2-4FF0-BD80-A7F22D43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4BC0-D0A5-4331-8032-119E9A4C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F0F2-365B-448A-98EC-8826C20E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D8AE-282F-4D54-A7F7-5E941003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E420-4833-42CA-8D8C-13E8E33C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4B36-FD6F-468D-A687-8DDBAA9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5C0C-5243-4CC4-B3F9-C6A1EA5A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C43-ECE1-4FC2-A9D0-73847767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2088-E288-4D77-97A0-5647E9FD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EB8C-72A5-475E-95F0-31983849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750B-8953-4795-8C49-0322FE43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EE09-6FB2-4C5E-B6A7-9C46F44D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AD8C-F84B-4478-AB47-E3F21F61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82B-EC3D-4D92-BB0E-9D704997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02A-EA4C-4211-9989-D92E0E16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05F-31F3-4578-AAF7-29C3EF75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0CA-DDEC-4754-8196-BC0E81F7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D73-E478-404A-8D98-2D0A1486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F44-67F1-463F-8CD1-17548CC6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9F8-2C3D-49EA-82A8-0882F4EB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31A-969E-4704-AC43-76B2537AA53D}" type="datetime">
              <a:rPr b="0" lang="tr-TR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3363-7DF4-4B72-89CE-F734C4FBD858}" type="slidenum">
              <a:rPr b="0" lang="tr-T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5889-947C-4CA1-9DDC-6C3A94FE2F4E}" type="datetime">
              <a:rPr b="0" lang="tr-TR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6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8C0C-EDBE-463B-A64A-C77D2E710A52}" type="slidenum">
              <a:rPr b="1" lang="tr-TR" sz="16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mnm\Pictures\--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411280" y="4941720"/>
            <a:ext cx="50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dinine davet edenler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 ilkeye dikkat etmesi gerek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1775-4B46-4565-B9E1-11FF71403AA2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mnm\Pictures\image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6659640" y="112536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عَمِلَ صَالِحً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547640" y="4581360"/>
            <a:ext cx="300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Allah’a çağıra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alih amel işley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5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DBE9-0B2D-4968-B9FF-F95395B2EA19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mnm\Pictures\image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0" y="357336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a çağırmanın temeli salih amel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aşında namaz gelmektedi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çünkü dosdğru namazdan daha  güz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daha salih amel yoktu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öz ancak salih amelle güzel ol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lih amelimiz olmazsa hiç kimsey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laha ve güzelliğie davet edemeyiz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5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9A55-15E5-499A-945F-1A8957DE02D4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mnm\Pictures\ima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6227640" y="270828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قَالَ اِنَّنٖى مِنَ الْمُسْلِمٖين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0" y="2690640"/>
            <a:ext cx="28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Allah’a çağıra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alih amel işley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6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DCBE-0396-48C3-A793-A1B1B3C26655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mnm\Pictures\image.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3762360" y="0"/>
            <a:ext cx="53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a güzel sözle ve salih am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avet ederken,Allah’ın kabul ettiğ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sevdiği ümmetin yolunda kalı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dan sapmamak gerek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79280" y="692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6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8F50-1426-402B-AC60-C688EC4FE249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Users\mnm\Pictures\image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2268360" y="155736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لَا تَسْتَوِى الْحَسَنَةُ وَلَا السَّيِّئَة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50920" y="4005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İyilikle kötülük bir olmaz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7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9007-3CE4-4881-BCFC-977C945BC645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mnm\Pictures\image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112920" y="3645000"/>
            <a:ext cx="603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Allah’ın değişmez kanunudu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yilik ve kötülük bir ola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a yumuşak sözle davet etme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ert sözle davet etmek gibi o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üjdelemk, nefret ettırmek gibi o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7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308B-0DE8-40A5-A9F4-21B4DE569867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mnm\Pictures\image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5076720" y="1125360"/>
            <a:ext cx="334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اِدْفَعْ بِالَّتٖى هِىَ اَحْسَن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فَاِذَا الَّذٖى بَيْنَكَ وَبَيْنَهُ عَدَاوَة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كَاَنَّهُ وَلِىٌّ حَمٖيم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3284640"/>
            <a:ext cx="53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Kötülüğü en güzel bir şekilde sa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Bir de bakarsın ki, seninle arası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düşmanlık bulunan kim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anki sıcak bir dost oluvermişt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8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78A-D989-47B6-A4E0-9318604FEE52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mnm\Pictures\image009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2340000" y="1773360"/>
            <a:ext cx="52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ilahi bir ilkedi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kötülüğü en güzel bir şekil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vmakt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üslümana yakışan da bud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Müslüman kendi hav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ves veya arzularına göre deği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ilkelerine ve hükümler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öre hareket eder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8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1A22-7209-4DD0-9BCE-03C240C65F30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mnm\Pictures\lakemathesonreflectsmounttasmanandmountcooknewzealandc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4932360" y="1125360"/>
            <a:ext cx="34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مَا يُلَقّٰیهَا اِلَّا الَّذٖينَ صَبَرُو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مَا يُلَقّٰیهَا اِلَّا ذُو حَظٍّ عَظٖيم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286000" y="269064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Bu güzel davranışa anc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abredenler kavuşturul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Buna ancak hayırdan 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olgunluktan büyük pay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olanlar kavuşturul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79280" y="9079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9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A09A-358C-4A98-8985-8F1C4BDDBFD3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mnm\Pictures\mukemmel_manzara_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227664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vadettikler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hip olabilmemiz iç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ın gösterdiği ve razı olduğ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olda sabırla ,sebatla ve azim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evam etmek gerek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ahlakla diğer insanlard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arkımız olu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9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4951-050E-4C6F-8B04-0764466F2917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mnm\Pictures\__iftlik_Yolu_Resimler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6156360" y="249228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اِنَّ الَّذٖينَ قَالُوا رَبُّنَا اللّٰه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1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2421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Şüphesiz, Rabbimi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Allah'tır.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19A8-347B-4F98-BC56-E8D53E13E29F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mnm\Pictures\ph123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3851280" y="1125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وَاِمَّا يَنْزَغَنَّكَ مِنَ الشَّيْطَانِ نَزْغ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فَاسْتَعِذْ بِاللّٰهِ اِنَّهُ هُوَ السَّمٖيعُ الْعَلٖيم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417996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Eğer şeytandan gelen kötü b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düşünce seni dürtecek olurs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hemen Allah’a sığı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Çünkü O, hakkıyla işitendi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hakkıyla bilen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10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69A4-F6F4-4FE3-84A5-0718B22443A0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mnm\Pictures\savas-pilotlarinin-gozunden-turkiye-381-21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3141720"/>
            <a:ext cx="612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tan bir hayal değildi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tan bir gerçektir, Allah’ın yarattığ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n kötü mahluktu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rrin kaynağı ve fitnenin başı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nsanların düşmanı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şi gücü insanı doğru yoldan saptırmakt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kıllı insan şer kaynaklrını öğreni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dan uzak kalmaya çalışan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10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E8E3-4B7C-47A7-9390-78E596B1B8AB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7A6E-1C1B-4995-A9FC-EECA1C335F18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mnm\Pictures\savas-pilotlarinin-gozunden-turkiye-381-1g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1692360" y="26028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8000" spc="-1" strike="noStrike">
                <a:solidFill>
                  <a:srgbClr val="00ffff"/>
                </a:solidFill>
                <a:latin typeface="Calibri"/>
                <a:cs typeface="Arial"/>
              </a:rPr>
              <a:t>والحمد لل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8000" spc="-1" strike="noStrike">
                <a:solidFill>
                  <a:srgbClr val="00ffff"/>
                </a:solidFill>
                <a:latin typeface="Calibri"/>
                <a:cs typeface="Arial"/>
              </a:rPr>
              <a:t>رب العالمي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mnm\Pictures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2124000" y="1700280"/>
            <a:ext cx="64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u demekle imanın ve tevhidin ilanı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Mü’mün’in özelliğid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n için Efendimiz şöyle demişti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e ki Allah’a inandım, sonra dosdoğru 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vet imanını açık açık ilan et çünk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en dosdoğru yo lüzerindesi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öyleyse Rabbını tanı ve O’nu herkese tanı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1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DD0D-803D-4921-B20A-F8DD2EE876BE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mnm\Pictures\1-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6300720" y="1125360"/>
            <a:ext cx="21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ثُمَّ اسْتَقَامُ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356000" y="28526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onra dosdoğru yol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yürüyenlerin üzer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melekler iner.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2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9E75-371B-4DFA-BEC6-E41255F40D94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mnm\Pictures\118168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24000" y="3716280"/>
            <a:ext cx="480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osdoğru olmak, bu da inan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lanına israrla bağlı kal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emek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öylece gerçek Mü’mü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ursun ve Allah’ın raz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duğu kullardan sayılırsı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2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A76C-9A68-4477-BE98-20CFC7413828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mnm\Pictures\s11w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5651640" y="0"/>
            <a:ext cx="34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تَتَنَزَّلُ عَلَيْهِمُ الْمَلٰئِكَةُ اَلَّا تَخَافُو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وَلَا تَحْزَنُوا وَاَبْشِرُوا بِالْجَنَّةِ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cc"/>
                </a:solidFill>
                <a:latin typeface="Calibri"/>
                <a:cs typeface="Arial"/>
              </a:rPr>
              <a:t>الَّتٖى كُنْتُمْ تُوعَدُون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059280" y="184464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onra dosdoğru yolda yürüyenler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üzerine melekler in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Onlara: Korkmayın, üzülmeyi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size vâdolunan cennetle sevin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müjdelenin! Der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.Fussilet-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3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FC97-4287-4661-9EEB-6E61353F0024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mnm\Pictures\forest-pic-1024x768-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2195640" y="1413000"/>
            <a:ext cx="518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vet insan müjdeden daha güz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r şey işitmemiş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n için müjde senin insanl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ptığın hitabın özü ols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fendimiz insanlara müjdeleyi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larak gönderilmiş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zi de öyle olmamızı istemekte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3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2171-07C3-4BEC-A9C1-1A3A3C6A6305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mnm\Pictures\image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4716360" y="33336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ffff"/>
                </a:solidFill>
                <a:latin typeface="Calibri"/>
                <a:cs typeface="Arial"/>
              </a:rPr>
              <a:t>وَمَنْ اَحْسَنُ قَوْلًا مِمَّنْ دَعَا اِلَى اللّٰه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539640" y="9810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Allah’a çağıran, salih am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işleyen ve “Kuşkusuz b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müslümanlardanım” diye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ffff"/>
                </a:solidFill>
                <a:latin typeface="Calibri"/>
              </a:rPr>
              <a:t>daha güzel sözlü kimd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Fussilet-3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4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FD5E-C2B3-4711-8296-2FDAA982EEF3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C:\Users\mnm\Pictures\mountrevelstokenationalparkrevelstokebritishcolumbiajx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3095640" y="1628640"/>
            <a:ext cx="60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Evet tek Allah’a davet etme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bu davet ise Allah’a  inanmak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00000"/>
                </a:solidFill>
                <a:latin typeface="Calibri"/>
              </a:rPr>
              <a:t>kaynaklanmakta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kın insanları Allah’a çağırırken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 çağrıya başka bir şey karışması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tan başkasına davet etmeyeli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u yapmazsak güzel sözlü olamayı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2602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4.İ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AAC5-2603-4A9A-B4CF-4E11CFA6ABA9}" type="slidenum">
              <a:rPr b="1" lang="tr-TR" sz="16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00:08Z</dcterms:created>
  <dc:creator>mnm</dc:creator>
  <dc:description/>
  <dc:language>en-US</dc:language>
  <cp:lastModifiedBy>mnm</cp:lastModifiedBy>
  <dcterms:modified xsi:type="dcterms:W3CDTF">2011-03-22T20:30:06Z</dcterms:modified>
  <cp:revision>86</cp:revision>
  <dc:subject/>
  <dc:title>Slide 1</dc:title>
</cp:coreProperties>
</file>