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08E11-07B1-461A-84EE-C0A95C74A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1B786-C57F-46B7-81F6-38E1DAA51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B6E6C-7329-4AD9-88C9-58784E523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97A4B-EB3D-45F4-8F12-6D6A4DF7B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761B6-04F0-4DD7-A941-CDD2C4C5C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3287B-1566-465F-935D-CCAD8725A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3EB00-7325-494C-9C2B-0E3A5D15B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67ACD-64BB-44F0-9581-8F2A89A8D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B0310-424A-492D-AD50-74FF09D86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0E41A-1146-434B-A662-A464922B9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8DD0C-0B13-4A32-87F5-298DB57C0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8A818-CFBC-4BDE-AAF4-445C6CBEF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416FF-5D3C-442A-A741-58A6F98712A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BE8D3-BFAA-4BA0-A85C-765E87DE6B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95A3F-CE52-4ED5-91AB-7BE8783571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71320" y="357120"/>
            <a:ext cx="8143560" cy="121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600" spc="-1" strike="noStrike">
                <a:solidFill>
                  <a:srgbClr val="ffff00"/>
                </a:solidFill>
                <a:latin typeface="Calibri"/>
              </a:rPr>
              <a:t>Bir gün Ömür Son Bulur.. </a:t>
            </a:r>
            <a:br>
              <a:rPr sz="3600"/>
            </a:br>
            <a:r>
              <a:rPr b="0" lang="tr-TR" sz="3600" spc="-1" strike="noStrike">
                <a:solidFill>
                  <a:srgbClr val="ffff00"/>
                </a:solidFill>
                <a:latin typeface="Calibri"/>
              </a:rPr>
              <a:t>O Gün , Bugün Olabilir.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571320" y="1857240"/>
            <a:ext cx="8143560" cy="48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Bilesin ki ömründen daha değerli bir varlığın yoktu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İbadetle Geçen anlardan  d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daha güzel ve değerli anlar yoktu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Onun için bu değerli ömrünü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güzel ve değerli ibadetle geçirmeye çalı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Hepimiz namaza dururken kafamız az veya ço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sayahata çıkmaya başlar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Aslında Namaz  tedebbür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tefekkür ve huşuu ile sağlam olur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7FD20-853C-4242-9365-60E429FD9B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71320" y="357120"/>
            <a:ext cx="8143560" cy="121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c000"/>
                </a:solidFill>
                <a:latin typeface="Calibri"/>
              </a:rPr>
              <a:t>3-Namaz Özel Bir Ödevdir:</a:t>
            </a:r>
            <a:br>
              <a:rPr sz="2800"/>
            </a:br>
            <a:r>
              <a:rPr b="0" lang="tr-TR" sz="2800" spc="-1" strike="noStrike">
                <a:solidFill>
                  <a:srgbClr val="ffc000"/>
                </a:solidFill>
                <a:latin typeface="Calibri"/>
              </a:rPr>
              <a:t>Ödevlerin en güzeli makbuldur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571320" y="1857240"/>
            <a:ext cx="8143560" cy="48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00"/>
                </a:solidFill>
                <a:latin typeface="Calibri"/>
              </a:rPr>
              <a:t>Namazdan maksat Allah’a yakın olmak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00"/>
                </a:solidFill>
                <a:latin typeface="Calibri"/>
              </a:rPr>
              <a:t>ve kalbi islah etmektir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00"/>
                </a:solidFill>
                <a:latin typeface="Calibri"/>
              </a:rPr>
              <a:t>Bunu için namaz kılınır .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00"/>
                </a:solidFill>
                <a:latin typeface="Calibri"/>
              </a:rPr>
              <a:t>Namaz kılmak normal bir görevi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00"/>
                </a:solidFill>
                <a:latin typeface="Calibri"/>
              </a:rPr>
              <a:t>eda etmek gibi değildir. 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00"/>
                </a:solidFill>
                <a:latin typeface="Calibri"/>
              </a:rPr>
              <a:t>Benzemez de .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00"/>
                </a:solidFill>
                <a:latin typeface="Calibri"/>
              </a:rPr>
              <a:t>Fatihayi okurken .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00"/>
                </a:solidFill>
                <a:latin typeface="Calibri"/>
              </a:rPr>
              <a:t>Allah’la konuşmak gibi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00"/>
                </a:solidFill>
                <a:latin typeface="Calibri"/>
              </a:rPr>
              <a:t>Bir haldır.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0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C94AC-12DC-434F-8FF7-DE451C11E5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71320" y="357120"/>
            <a:ext cx="8143560" cy="121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c000"/>
                </a:solidFill>
                <a:latin typeface="Calibri"/>
              </a:rPr>
              <a:t>4-Namazda Okunanların Anlamını Düşünmek </a:t>
            </a:r>
            <a:br>
              <a:rPr sz="2800"/>
            </a:br>
            <a:r>
              <a:rPr b="0" lang="tr-TR" sz="2800" spc="-1" strike="noStrike">
                <a:solidFill>
                  <a:srgbClr val="ffc000"/>
                </a:solidFill>
                <a:latin typeface="Calibri"/>
              </a:rPr>
              <a:t>ve onun Atmosferine Girmek gereki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571320" y="1857240"/>
            <a:ext cx="8143560" cy="45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Dil söylerken , akıl ve kalp ta onun mealını 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Anlamını düşünerek.. yaşayarak  eşlik etsinler.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etsinler ki Allah’a yakın olsunla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99ff"/>
                </a:solidFill>
                <a:latin typeface="Calibri"/>
              </a:rPr>
              <a:t>Rabbimiz şöyle diyo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ff"/>
                </a:solidFill>
                <a:latin typeface="Calibri"/>
                <a:cs typeface="Arial"/>
              </a:rPr>
              <a:t>اَلَّذينَ هُمْ فى صَلَاتِهِمْ خَاشِعُونَ</a:t>
            </a:r>
            <a:r>
              <a:rPr b="0" lang="en-US" sz="2800" spc="-1" strike="noStrike">
                <a:solidFill>
                  <a:srgbClr val="00ffff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Calibri"/>
              </a:rPr>
              <a:t>Onlar ki, namazlarında derin saygı içindedirler.</a:t>
            </a:r>
            <a:r>
              <a:rPr b="0" lang="en-US" sz="2800" spc="-1" strike="noStrike">
                <a:solidFill>
                  <a:srgbClr val="00b0f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98989"/>
                </a:solidFill>
                <a:latin typeface="Calibri"/>
              </a:rPr>
              <a:t>(MÜ'MİNÛN-2.) 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99ff"/>
                </a:solidFill>
                <a:latin typeface="Calibri"/>
              </a:rPr>
              <a:t>Namazda sağa sola fazla hareket etmemek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99ff"/>
                </a:solidFill>
                <a:latin typeface="Calibri"/>
              </a:rPr>
              <a:t>Secde yerine bakmak huşuu artırı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0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3BEC4-F026-4F4D-8AA3-E71C746318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71320" y="357120"/>
            <a:ext cx="8143560" cy="121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5- Sema’ya Bakmamak gereki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26920" y="2852640"/>
            <a:ext cx="8143920" cy="373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ff"/>
                </a:solidFill>
                <a:latin typeface="Calibri"/>
              </a:rPr>
              <a:t>Resûlullah </a:t>
            </a:r>
            <a:r>
              <a:rPr b="0" i="1" lang="en-US" sz="2800" spc="-1" strike="noStrike">
                <a:solidFill>
                  <a:srgbClr val="ff99ff"/>
                </a:solidFill>
                <a:latin typeface="Calibri"/>
              </a:rPr>
              <a:t>sallallahu aleyhi ve sellem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ff"/>
                </a:solidFill>
                <a:latin typeface="Calibri"/>
              </a:rPr>
              <a:t>şöyle buyurdu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66"/>
                </a:solidFill>
                <a:latin typeface="Calibri"/>
              </a:rPr>
              <a:t>"Bazı kimselere ne oluyor ki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66"/>
                </a:solidFill>
                <a:latin typeface="Calibri"/>
              </a:rPr>
              <a:t>namazlarında gözlerini semaya dikiyorlar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alibri"/>
              </a:rPr>
              <a:t>" Sonra sözünü daha da şiddetlendirdi ve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66"/>
                </a:solidFill>
                <a:latin typeface="Calibri"/>
              </a:rPr>
              <a:t>"Ya bundan vaz geçerler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66"/>
                </a:solidFill>
                <a:latin typeface="Calibri"/>
              </a:rPr>
              <a:t>ya da gözlerinin nuru alınır da kör olurlar"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8" dur="indefinite" restart="never" nodeType="tmRoot">
          <p:childTnLst>
            <p:seq>
              <p:cTn id="509" dur="indefinite" nodeType="mainSeq">
                <p:childTnLst>
                  <p:par>
                    <p:cTn id="510" fill="hold">
                      <p:stCondLst>
                        <p:cond delay="0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8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CBB47-F6F0-43AF-8DF7-6EC81F803F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1320" y="357120"/>
            <a:ext cx="8143560" cy="121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c000"/>
                </a:solidFill>
                <a:latin typeface="Calibri"/>
              </a:rPr>
              <a:t>6- Bir Mazereti Olmaksızın Namazda </a:t>
            </a:r>
            <a:br>
              <a:rPr sz="2800"/>
            </a:br>
            <a:r>
              <a:rPr b="0" lang="tr-TR" sz="2800" spc="-1" strike="noStrike">
                <a:solidFill>
                  <a:srgbClr val="ffc000"/>
                </a:solidFill>
                <a:latin typeface="Calibri"/>
              </a:rPr>
              <a:t>Başını Sağa Sola Çevirmenin Mekruh Oluş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571320" y="1857240"/>
            <a:ext cx="8143560" cy="45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ff"/>
                </a:solidFill>
                <a:latin typeface="Calibri"/>
              </a:rPr>
              <a:t>Resûlullah </a:t>
            </a:r>
            <a:r>
              <a:rPr b="0" i="1" lang="en-US" sz="2800" spc="-1" strike="noStrike">
                <a:solidFill>
                  <a:srgbClr val="ff99ff"/>
                </a:solidFill>
                <a:latin typeface="Calibri"/>
              </a:rPr>
              <a:t>sallallahu aleyhi ve sellem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ff"/>
                </a:solidFill>
                <a:latin typeface="Calibri"/>
              </a:rPr>
              <a:t>şöyle buyurdu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66"/>
                </a:solidFill>
                <a:latin typeface="Calibri"/>
              </a:rPr>
              <a:t>"Namazda sağa sola bakmaktan sakın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66"/>
                </a:solidFill>
                <a:latin typeface="Calibri"/>
              </a:rPr>
              <a:t>Çünkü namazda iken sağa sola bakmak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66"/>
                </a:solidFill>
                <a:latin typeface="Calibri"/>
              </a:rPr>
              <a:t>helâk olmaya sebeptir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66"/>
                </a:solidFill>
                <a:latin typeface="Calibri"/>
              </a:rPr>
              <a:t>Sağa sola dönmekten kurtuluş yoksa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66"/>
                </a:solidFill>
                <a:latin typeface="Calibri"/>
              </a:rPr>
              <a:t>bari bu nâfilede olsun, farzda olmasın.“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6" dur="indefinite" restart="never" nodeType="tmRoot">
          <p:childTnLst>
            <p:seq>
              <p:cTn id="557" dur="indefinite" nodeType="mainSeq">
                <p:childTnLst>
                  <p:par>
                    <p:cTn id="558" fill="hold">
                      <p:stCondLst>
                        <p:cond delay="0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1FC6F-BDA3-4D8F-BB4B-70606D0294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1320" y="357120"/>
            <a:ext cx="8143560" cy="98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c000"/>
                </a:solidFill>
                <a:latin typeface="Calibri"/>
              </a:rPr>
              <a:t>7- Esnemeya Engel Olma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571320" y="1628280"/>
            <a:ext cx="8143560" cy="472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ff"/>
                </a:solidFill>
                <a:latin typeface="Calibri"/>
              </a:rPr>
              <a:t>Resûlullah </a:t>
            </a:r>
            <a:r>
              <a:rPr b="0" i="1" lang="en-US" sz="2800" spc="-1" strike="noStrike">
                <a:solidFill>
                  <a:srgbClr val="ff99ff"/>
                </a:solidFill>
                <a:latin typeface="Calibri"/>
              </a:rPr>
              <a:t>sallallahu aleyhi ve sell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99ff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ff99ff"/>
                </a:solidFill>
                <a:latin typeface="Calibri"/>
              </a:rPr>
              <a:t>şöyle buyurdu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66"/>
                </a:solidFill>
                <a:latin typeface="Calibri"/>
              </a:rPr>
              <a:t>“</a:t>
            </a:r>
            <a:r>
              <a:rPr b="0" lang="en-US" sz="2800" spc="-1" strike="noStrike">
                <a:solidFill>
                  <a:srgbClr val="66ff66"/>
                </a:solidFill>
                <a:latin typeface="Calibri"/>
              </a:rPr>
              <a:t>Şüphesiz Allah aksıranı sever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66"/>
                </a:solidFill>
                <a:latin typeface="Calibri"/>
              </a:rPr>
              <a:t>fakat esneyeni sevmez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66"/>
                </a:solidFill>
                <a:latin typeface="Calibri"/>
              </a:rPr>
              <a:t>.... Esnemek şeytandandır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66"/>
                </a:solidFill>
                <a:latin typeface="Calibri"/>
              </a:rPr>
              <a:t>Sizden birinizin esnemesi</a:t>
            </a:r>
            <a:r>
              <a:rPr b="0" lang="tr-TR" sz="2800" spc="-1" strike="noStrike">
                <a:solidFill>
                  <a:srgbClr val="66ff66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66ff66"/>
                </a:solidFill>
                <a:latin typeface="Calibri"/>
              </a:rPr>
              <a:t>geldiği zaman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66"/>
                </a:solidFill>
                <a:latin typeface="Calibri"/>
              </a:rPr>
              <a:t>onu gücü yettiği kadar engellemeye</a:t>
            </a:r>
            <a:r>
              <a:rPr b="0" lang="tr-TR" sz="2800" spc="-1" strike="noStrike">
                <a:solidFill>
                  <a:srgbClr val="66ff66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66ff66"/>
                </a:solidFill>
                <a:latin typeface="Calibri"/>
              </a:rPr>
              <a:t>çalışsın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66"/>
                </a:solidFill>
                <a:latin typeface="Calibri"/>
              </a:rPr>
              <a:t>Çünkü sizden biriniz esnediği zam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66"/>
                </a:solidFill>
                <a:latin typeface="Calibri"/>
              </a:rPr>
              <a:t>şeytan ona güler.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4" dur="indefinite" restart="never" nodeType="tmRoot">
          <p:childTnLst>
            <p:seq>
              <p:cTn id="605" dur="indefinite" nodeType="mainSeq">
                <p:childTnLst>
                  <p:par>
                    <p:cTn id="606" fill="hold">
                      <p:stCondLst>
                        <p:cond delay="0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Grafik 1" descr="100-Ham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9BFA0-A833-49D4-8DDB-3AE99FD446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1320" y="357120"/>
            <a:ext cx="8143560" cy="121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tr-TR" sz="2800" spc="-1" strike="noStrike">
                <a:solidFill>
                  <a:srgbClr val="ffc000"/>
                </a:solidFill>
                <a:latin typeface="Calibri"/>
              </a:rPr>
              <a:t>8-Şüphelere Kapılmamak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571320" y="1857240"/>
            <a:ext cx="8143560" cy="45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00"/>
                </a:solidFill>
                <a:latin typeface="Calibri"/>
              </a:rPr>
              <a:t>Abdesti sağlam olup olmamasında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00"/>
                </a:solidFill>
                <a:latin typeface="Calibri"/>
              </a:rPr>
              <a:t>veya Rek’at sayısından şübhey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00"/>
                </a:solidFill>
                <a:latin typeface="Calibri"/>
              </a:rPr>
              <a:t>düşmemeye çalışsın.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00"/>
                </a:solidFill>
                <a:latin typeface="Calibri"/>
              </a:rPr>
              <a:t>böyle durumlarda 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00"/>
                </a:solidFill>
                <a:latin typeface="Calibri"/>
              </a:rPr>
              <a:t>Şeytandan Allah’a sığınıp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200" spc="-1" strike="noStrike">
                <a:solidFill>
                  <a:srgbClr val="ffff00"/>
                </a:solidFill>
                <a:latin typeface="Calibri"/>
              </a:rPr>
              <a:t>namazına devam etmesi gereki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4" dur="indefinite" restart="never" nodeType="tmRoot">
          <p:childTnLst>
            <p:seq>
              <p:cTn id="665" dur="indefinite" nodeType="mainSeq">
                <p:childTnLst>
                  <p:par>
                    <p:cTn id="666" fill="hold">
                      <p:stCondLst>
                        <p:cond delay="0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Grafik 1" descr="140-Palmyr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C15FE-129F-48D5-A289-F0FA5C0F0A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143920" cy="121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c000"/>
                </a:solidFill>
                <a:latin typeface="Calibri"/>
              </a:rPr>
              <a:t>9- Gizli Veya Çok Yüksek Sesle Okumamak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395280" y="1196640"/>
            <a:ext cx="8143920" cy="45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Okurken kendi sesini duyacak kadar yüksek olsu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99ff"/>
                </a:solidFill>
                <a:latin typeface="Calibri"/>
              </a:rPr>
              <a:t>Rabbimiz şöyle buyurmaktadı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00b0f0"/>
                </a:solidFill>
                <a:latin typeface="Calibri"/>
              </a:rPr>
              <a:t> </a:t>
            </a:r>
            <a:r>
              <a:rPr b="0" lang="ar-SA" sz="2800" spc="-1" strike="noStrike">
                <a:solidFill>
                  <a:srgbClr val="00ffff"/>
                </a:solidFill>
                <a:latin typeface="Calibri"/>
                <a:cs typeface="Arial"/>
              </a:rPr>
              <a:t>وَلَا تَجْهَرْ بِصَلَاتِكَ وَلَا تُخَافِتْ بِهَا وَابْتَغِ بَيْنَ ذٰلِكَ سَبٖيلًا</a:t>
            </a:r>
            <a:r>
              <a:rPr b="0" lang="en-US" sz="2800" spc="-1" strike="noStrike">
                <a:solidFill>
                  <a:srgbClr val="00ffff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Calibri"/>
              </a:rPr>
              <a:t>Namazında sesini pek yükseltme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Calibri"/>
              </a:rPr>
              <a:t>çok da kısma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ff"/>
                </a:solidFill>
                <a:latin typeface="Calibri"/>
              </a:rPr>
              <a:t>İkisi ortası bir yol tut.</a:t>
            </a:r>
            <a:r>
              <a:rPr b="0" lang="en-US" sz="2800" spc="-1" strike="noStrike">
                <a:solidFill>
                  <a:srgbClr val="00b0f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ff"/>
                </a:solidFill>
                <a:latin typeface="Calibri"/>
              </a:rPr>
              <a:t>(İSRÂ- 110.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6" dur="indefinite" restart="never" nodeType="tmRoot">
          <p:childTnLst>
            <p:seq>
              <p:cTn id="707" dur="indefinite" nodeType="mainSeq">
                <p:childTnLst>
                  <p:par>
                    <p:cTn id="708" fill="hold">
                      <p:stCondLst>
                        <p:cond delay="0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Grafik 1" descr="102-Ham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EF837-98C9-4D8C-AE71-874A29A605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71320" y="357120"/>
            <a:ext cx="8143560" cy="121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c000"/>
                </a:solidFill>
                <a:latin typeface="Calibri"/>
              </a:rPr>
              <a:t>10- Namazı Güzelce Eda Etmek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571320" y="1857240"/>
            <a:ext cx="8143560" cy="45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Tadil erkanı titizlikle yerine getirilmesi gerekir 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Yani namazın her rüknünün hakkını vermekl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Tadil-i Erkan olur.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Buna İKAME  denilir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Rabbımız hiç bir ayette namaz kılı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diye buyurmamıştır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Namazı İKAME edi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diye buyurmuştu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0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1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6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5" dur="5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1" dur="500" fill="hold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6" dur="500" fill="hold"/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Grafik 1" descr="129-Aleppo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9E425-05BF-4565-B1B1-8F50F9EEC3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1320" y="357120"/>
            <a:ext cx="8143560" cy="121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ff"/>
                </a:solidFill>
                <a:latin typeface="Calibri"/>
              </a:rPr>
              <a:t>Resûlullah </a:t>
            </a:r>
            <a:r>
              <a:rPr b="0" i="1" lang="en-US" sz="2800" spc="-1" strike="noStrike">
                <a:solidFill>
                  <a:srgbClr val="ff99ff"/>
                </a:solidFill>
                <a:latin typeface="Calibri"/>
              </a:rPr>
              <a:t>sallallahu aleyhi ve sellem </a:t>
            </a:r>
            <a:r>
              <a:rPr b="0" lang="en-US" sz="2800" spc="-1" strike="noStrike">
                <a:solidFill>
                  <a:srgbClr val="ff99ff"/>
                </a:solidFill>
                <a:latin typeface="Calibri"/>
              </a:rPr>
              <a:t>şöyle buyurdu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571320" y="1857240"/>
            <a:ext cx="8143560" cy="45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Calibri"/>
              </a:rPr>
              <a:t>“</a:t>
            </a:r>
            <a:r>
              <a:rPr b="0" i="1" lang="en-US" sz="2800" spc="-1" strike="noStrike">
                <a:solidFill>
                  <a:srgbClr val="ffff00"/>
                </a:solidFill>
                <a:latin typeface="Calibri"/>
              </a:rPr>
              <a:t>Rasûlullah (Sallallahu Aleyhi ve Sellem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Calibri"/>
              </a:rPr>
              <a:t>Sahabilerine</a:t>
            </a:r>
            <a:r>
              <a:rPr b="0" i="1" lang="tr-TR" sz="28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0" i="1" lang="en-US" sz="2800" spc="-1" strike="noStrike">
                <a:solidFill>
                  <a:srgbClr val="ffff00"/>
                </a:solidFill>
                <a:latin typeface="Calibri"/>
              </a:rPr>
              <a:t>namaz kıldırırdı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Calibri"/>
              </a:rPr>
              <a:t>Sonra onlardan bir grup ile oturdu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Calibri"/>
              </a:rPr>
              <a:t>İçeriye</a:t>
            </a:r>
            <a:r>
              <a:rPr b="0" i="1" lang="tr-TR" sz="28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0" i="1" lang="en-US" sz="2800" spc="-1" strike="noStrike">
                <a:solidFill>
                  <a:srgbClr val="ffff00"/>
                </a:solidFill>
                <a:latin typeface="Calibri"/>
              </a:rPr>
              <a:t>bir adam girdi ve namaza durdu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Calibri"/>
              </a:rPr>
              <a:t>Rukû etmeye ve (tavuğun</a:t>
            </a:r>
            <a:r>
              <a:rPr b="0" i="1" lang="tr-TR" sz="2800" spc="-1" strike="noStrike">
                <a:solidFill>
                  <a:srgbClr val="ffff00"/>
                </a:solidFill>
                <a:latin typeface="Calibri"/>
              </a:rPr>
              <a:t>,</a:t>
            </a:r>
            <a:r>
              <a:rPr b="0" i="1" lang="en-US" sz="2800" spc="-1" strike="noStrike">
                <a:solidFill>
                  <a:srgbClr val="ffff00"/>
                </a:solidFill>
                <a:latin typeface="Calibri"/>
              </a:rPr>
              <a:t>yem gagalaması gibi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Calibri"/>
              </a:rPr>
              <a:t>başını eğip kaldırarak secde etmeyebaşladı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00"/>
                </a:solidFill>
                <a:latin typeface="Calibri"/>
              </a:rPr>
              <a:t>Rasûlullah (Sallallahu Aleyhi ve Sellem)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8" dur="indefinite" restart="never" nodeType="tmRoot">
          <p:childTnLst>
            <p:seq>
              <p:cTn id="809" dur="indefinite" nodeType="mainSeq">
                <p:childTnLst>
                  <p:par>
                    <p:cTn id="810" fill="hold">
                      <p:stCondLst>
                        <p:cond delay="0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4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7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3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8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9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4" dur="5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8200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B3928-C188-4BA1-9AA3-4E1DE04092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11280" y="260280"/>
            <a:ext cx="814392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ff"/>
                </a:solidFill>
                <a:latin typeface="Calibri"/>
              </a:rPr>
              <a:t>Resûlullah </a:t>
            </a:r>
            <a:r>
              <a:rPr b="0" i="1" lang="en-US" sz="2800" spc="-1" strike="noStrike">
                <a:solidFill>
                  <a:srgbClr val="ff99ff"/>
                </a:solidFill>
                <a:latin typeface="Calibri"/>
              </a:rPr>
              <a:t>sallallahu aleyhi ve sellem </a:t>
            </a:r>
            <a:r>
              <a:rPr b="0" lang="en-US" sz="2800" spc="-1" strike="noStrike">
                <a:solidFill>
                  <a:srgbClr val="ff99ff"/>
                </a:solidFill>
                <a:latin typeface="Calibri"/>
              </a:rPr>
              <a:t>şöyle buyurdu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571320" y="1484280"/>
            <a:ext cx="814356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66"/>
                </a:solidFill>
                <a:latin typeface="Calibri"/>
              </a:rPr>
              <a:t>−‘</a:t>
            </a:r>
            <a:r>
              <a:rPr b="0" lang="en-US" sz="2800" spc="-1" strike="noStrike">
                <a:solidFill>
                  <a:srgbClr val="66ff66"/>
                </a:solidFill>
                <a:latin typeface="Calibri"/>
              </a:rPr>
              <a:t>Bunu görüyor musunuz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66"/>
                </a:solidFill>
                <a:latin typeface="Calibri"/>
              </a:rPr>
              <a:t>Kim bunun üzere ölür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66"/>
                </a:solidFill>
                <a:latin typeface="Calibri"/>
              </a:rPr>
              <a:t>Muhammed’in dininden başka bir şey üzere ölmüştü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66"/>
                </a:solidFill>
                <a:latin typeface="Calibri"/>
              </a:rPr>
              <a:t>Kuzgunun leşi gagalaması gibi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66"/>
                </a:solidFill>
                <a:latin typeface="Calibri"/>
              </a:rPr>
              <a:t>namazında başını eğip</a:t>
            </a:r>
            <a:r>
              <a:rPr b="0" lang="tr-TR" sz="2800" spc="-1" strike="noStrike">
                <a:solidFill>
                  <a:srgbClr val="66ff66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66ff66"/>
                </a:solidFill>
                <a:latin typeface="Calibri"/>
              </a:rPr>
              <a:t>hemen kaldırır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66"/>
                </a:solidFill>
                <a:latin typeface="Calibri"/>
              </a:rPr>
              <a:t>Rükû edip secdesini (tavuğun yem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66"/>
                </a:solidFill>
                <a:latin typeface="Calibri"/>
              </a:rPr>
              <a:t>gagalaması gibi yapan bir ya da iki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66"/>
                </a:solidFill>
                <a:latin typeface="Calibri"/>
              </a:rPr>
              <a:t>hurma tanesi yiyen aç</a:t>
            </a:r>
            <a:r>
              <a:rPr b="0" lang="tr-TR" sz="2800" spc="-1" strike="noStrike">
                <a:solidFill>
                  <a:srgbClr val="66ff66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66ff66"/>
                </a:solidFill>
                <a:latin typeface="Calibri"/>
              </a:rPr>
              <a:t>insan gibidir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66"/>
                </a:solidFill>
                <a:latin typeface="Calibri"/>
              </a:rPr>
              <a:t>Bu onun açlığından neyi giderir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</a:rPr>
              <a:t>?!’ buyurdu.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6" dur="indefinite" restart="never" nodeType="tmRoot">
          <p:childTnLst>
            <p:seq>
              <p:cTn id="857" dur="indefinite" nodeType="mainSeq">
                <p:childTnLst>
                  <p:par>
                    <p:cTn id="858" fill="hold">
                      <p:stCondLst>
                        <p:cond delay="0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6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7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2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3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8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9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4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5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0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8" dur="5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4" dur="5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1B9C1-E46D-434E-A7C6-24575A2BEC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71320" y="357120"/>
            <a:ext cx="8143560" cy="121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Efendimiz şöyle buyurmaktadı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71320" y="1857240"/>
            <a:ext cx="8143560" cy="45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66"/>
                </a:solidFill>
                <a:latin typeface="Calibri"/>
              </a:rPr>
              <a:t>“</a:t>
            </a:r>
            <a:r>
              <a:rPr b="0" lang="en-US" sz="2800" spc="-1" strike="noStrike">
                <a:solidFill>
                  <a:srgbClr val="66ff66"/>
                </a:solidFill>
                <a:latin typeface="Calibri"/>
              </a:rPr>
              <a:t>Kıyamet gününde kulu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66"/>
                </a:solidFill>
                <a:latin typeface="Calibri"/>
              </a:rPr>
              <a:t>hesaba çekileceği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66"/>
                </a:solidFill>
                <a:latin typeface="Calibri"/>
              </a:rPr>
              <a:t>ilk ameli</a:t>
            </a:r>
            <a:r>
              <a:rPr b="0" lang="tr-TR" sz="2800" spc="-1" strike="noStrike">
                <a:solidFill>
                  <a:srgbClr val="66ff66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66ff66"/>
                </a:solidFill>
                <a:latin typeface="Calibri"/>
              </a:rPr>
              <a:t>onun namazıdır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66"/>
                </a:solidFill>
                <a:latin typeface="Calibri"/>
              </a:rPr>
              <a:t>Eğer namazı düzgün olursa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66"/>
                </a:solidFill>
                <a:latin typeface="Calibri"/>
              </a:rPr>
              <a:t>işi iyi gider</a:t>
            </a:r>
            <a:r>
              <a:rPr b="0" lang="tr-TR" sz="2800" spc="-1" strike="noStrike">
                <a:solidFill>
                  <a:srgbClr val="66ff66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66ff66"/>
                </a:solidFill>
                <a:latin typeface="Calibri"/>
              </a:rPr>
              <a:t>ve kazançlı çıka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66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66ff66"/>
                </a:solidFill>
                <a:latin typeface="Calibri"/>
              </a:rPr>
              <a:t>Namazı düzgün olmazsa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66"/>
                </a:solidFill>
                <a:latin typeface="Calibri"/>
              </a:rPr>
              <a:t>kaybeder ve</a:t>
            </a:r>
            <a:r>
              <a:rPr b="0" lang="tr-TR" sz="2800" spc="-1" strike="noStrike">
                <a:solidFill>
                  <a:srgbClr val="66ff66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66ff66"/>
                </a:solidFill>
                <a:latin typeface="Calibri"/>
              </a:rPr>
              <a:t>zararlı çıkar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Grafik 1" descr="072-Maaloul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37106-0DBC-4B28-BAAB-8D43F8A896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71320" y="357120"/>
            <a:ext cx="8143560" cy="121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ff"/>
                </a:solidFill>
                <a:latin typeface="Calibri"/>
              </a:rPr>
              <a:t>Resûlullah </a:t>
            </a:r>
            <a:r>
              <a:rPr b="0" i="1" lang="en-US" sz="2800" spc="-1" strike="noStrike">
                <a:solidFill>
                  <a:srgbClr val="ff99ff"/>
                </a:solidFill>
                <a:latin typeface="Calibri"/>
              </a:rPr>
              <a:t>sallallahu aleyhi ve sellem </a:t>
            </a:r>
            <a:r>
              <a:rPr b="0" lang="en-US" sz="2800" spc="-1" strike="noStrike">
                <a:solidFill>
                  <a:srgbClr val="ff99ff"/>
                </a:solidFill>
                <a:latin typeface="Calibri"/>
              </a:rPr>
              <a:t>şöyle buyurdu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571320" y="1857240"/>
            <a:ext cx="8143560" cy="45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00"/>
                </a:solidFill>
                <a:latin typeface="Calibri"/>
              </a:rPr>
              <a:t>"</a:t>
            </a:r>
            <a:r>
              <a:rPr b="0" lang="en-US" sz="3200" spc="-1" strike="noStrike">
                <a:solidFill>
                  <a:srgbClr val="00cc00"/>
                </a:solidFill>
                <a:latin typeface="Calibri"/>
              </a:rPr>
              <a:t>Hırsızlık bakımında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00"/>
                </a:solidFill>
                <a:latin typeface="Calibri"/>
              </a:rPr>
              <a:t>insanların en kötüsü 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00"/>
                </a:solidFill>
                <a:latin typeface="Calibri"/>
              </a:rPr>
              <a:t>namazından çalandı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00"/>
                </a:solidFill>
                <a:latin typeface="Calibri"/>
              </a:rPr>
              <a:t>Rükuundan çalar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00"/>
                </a:solidFill>
                <a:latin typeface="Calibri"/>
              </a:rPr>
              <a:t>secdesinden çalar.“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6" dur="indefinite" restart="never" nodeType="tmRoot">
          <p:childTnLst>
            <p:seq>
              <p:cTn id="917" dur="indefinite" nodeType="mainSeq">
                <p:childTnLst>
                  <p:par>
                    <p:cTn id="918" fill="hold">
                      <p:stCondLst>
                        <p:cond delay="0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fill="hold">
                      <p:stCondLst>
                        <p:cond delay="indefinite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fill="hold">
                      <p:stCondLst>
                        <p:cond delay="indefinite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8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4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5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0" dur="5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1" dur="5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Grafik 1" descr="073-Krak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B7B4C-BA6C-4A0B-A398-F1BF32D843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1320" y="357120"/>
            <a:ext cx="8143560" cy="121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alibri"/>
              </a:rPr>
              <a:t>Namazın nasıl kılınacağını bize 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Calibri"/>
              </a:rPr>
              <a:t>Peygamber Efendimiz (sav) öğretiyo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571320" y="1857240"/>
            <a:ext cx="8143560" cy="45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00"/>
                </a:solidFill>
                <a:latin typeface="Calibri"/>
              </a:rPr>
              <a:t>"Beni nasıl namaz kılar görüyorsanız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00"/>
                </a:solidFill>
                <a:latin typeface="Calibri"/>
              </a:rPr>
              <a:t>siz de öylece kılın"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alibri"/>
              </a:rPr>
              <a:t>buyurdu.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2" dur="indefinite" restart="never" nodeType="tmRoot">
          <p:childTnLst>
            <p:seq>
              <p:cTn id="953" dur="indefinite" nodeType="mainSeq">
                <p:childTnLst>
                  <p:par>
                    <p:cTn id="954" fill="hold">
                      <p:stCondLst>
                        <p:cond delay="0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2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3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8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9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4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5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12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96642-0D90-4623-A746-BB10923188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71320" y="357120"/>
            <a:ext cx="8143560" cy="121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4000" spc="-1" strike="noStrike">
                <a:solidFill>
                  <a:srgbClr val="ffff00"/>
                </a:solidFill>
                <a:latin typeface="Calibri"/>
              </a:rPr>
              <a:t>ALLAHIM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539640" y="1773360"/>
            <a:ext cx="8143920" cy="23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alibri"/>
              </a:rPr>
              <a:t>B</a:t>
            </a: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İz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</a:rPr>
              <a:t>i namaza devam eden  kimse</a:t>
            </a: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lerden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</a:rPr>
              <a:t> eyle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alibri"/>
              </a:rPr>
              <a:t>Soyum</a:t>
            </a: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uz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</a:rPr>
              <a:t>dan da böyle kimseler yarat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alibri"/>
              </a:rPr>
              <a:t>Rabbimiz! Duamı</a:t>
            </a: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zı</a:t>
            </a:r>
            <a:r>
              <a:rPr b="0" lang="en-US" sz="2800" spc="-1" strike="noStrike">
                <a:solidFill>
                  <a:srgbClr val="ffff00"/>
                </a:solidFill>
                <a:latin typeface="Calibri"/>
              </a:rPr>
              <a:t> kabul eyle.”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Bizi, namazını dosdoğru kılanlardan ey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6" dur="indefinite" restart="never" nodeType="tmRoot">
          <p:childTnLst>
            <p:seq>
              <p:cTn id="977" dur="indefinite" nodeType="mainSeq">
                <p:childTnLst>
                  <p:par>
                    <p:cTn id="978" fill="hold">
                      <p:stCondLst>
                        <p:cond delay="0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6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7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2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3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8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9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4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5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964720" cy="6730920"/>
          </a:xfrm>
          <a:prstGeom prst="rect">
            <a:avLst/>
          </a:prstGeom>
          <a:ln w="0">
            <a:noFill/>
          </a:ln>
        </p:spPr>
      </p:pic>
      <p:sp>
        <p:nvSpPr>
          <p:cNvPr id="128" name="Subtitle 2"/>
          <p:cNvSpPr/>
          <p:nvPr/>
        </p:nvSpPr>
        <p:spPr>
          <a:xfrm>
            <a:off x="539640" y="981000"/>
            <a:ext cx="814392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Calibri"/>
              </a:rPr>
              <a:t>“</a:t>
            </a:r>
            <a:r>
              <a:rPr b="0" lang="en-US" sz="2800" spc="-1" strike="noStrike">
                <a:solidFill>
                  <a:srgbClr val="800080"/>
                </a:solidFill>
                <a:latin typeface="Calibri"/>
              </a:rPr>
              <a:t>Ey Rabbi</a:t>
            </a:r>
            <a:r>
              <a:rPr b="0" lang="tr-TR" sz="2800" spc="-1" strike="noStrike">
                <a:solidFill>
                  <a:srgbClr val="800080"/>
                </a:solidFill>
                <a:latin typeface="Calibri"/>
              </a:rPr>
              <a:t>miz</a:t>
            </a:r>
            <a:r>
              <a:rPr b="0" lang="en-US" sz="2800" spc="-1" strike="noStrike">
                <a:solidFill>
                  <a:srgbClr val="800080"/>
                </a:solidFill>
                <a:latin typeface="Calibri"/>
              </a:rPr>
              <a:t>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Calibri"/>
              </a:rPr>
              <a:t>B</a:t>
            </a:r>
            <a:r>
              <a:rPr b="0" lang="tr-TR" sz="2800" spc="-1" strike="noStrike">
                <a:solidFill>
                  <a:srgbClr val="800080"/>
                </a:solidFill>
                <a:latin typeface="Calibri"/>
              </a:rPr>
              <a:t>ize </a:t>
            </a:r>
            <a:r>
              <a:rPr b="0" lang="en-US" sz="2800" spc="-1" strike="noStrike">
                <a:solidFill>
                  <a:srgbClr val="800080"/>
                </a:solidFill>
                <a:latin typeface="Calibri"/>
              </a:rPr>
              <a:t>verdiğin nimetlere şükretmey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Calibri"/>
              </a:rPr>
              <a:t>Ve</a:t>
            </a:r>
            <a:r>
              <a:rPr b="0" lang="tr-TR" sz="2800" spc="-1" strike="noStrike">
                <a:solidFill>
                  <a:srgbClr val="80008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800080"/>
                </a:solidFill>
                <a:latin typeface="Calibri"/>
              </a:rPr>
              <a:t>razı olacağın salih ameller işlemeye sevk 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800080"/>
                </a:solidFill>
                <a:latin typeface="Calibri"/>
              </a:rPr>
              <a:t>Bizi </a:t>
            </a:r>
            <a:r>
              <a:rPr b="0" lang="en-US" sz="2800" spc="-1" strike="noStrike">
                <a:solidFill>
                  <a:srgbClr val="800080"/>
                </a:solidFill>
                <a:latin typeface="Calibri"/>
              </a:rPr>
              <a:t>rahmetinle salih kulların arasına kat!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6" dur="indefinite" restart="never" nodeType="tmRoot">
          <p:childTnLst>
            <p:seq>
              <p:cTn id="1007" dur="indefinite" nodeType="mainSeq">
                <p:childTnLst>
                  <p:par>
                    <p:cTn id="1008" fill="hold">
                      <p:stCondLst>
                        <p:cond delay="0"/>
                      </p:stCondLst>
                      <p:childTnLst>
                        <p:par>
                          <p:cTn id="1009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2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3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8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9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0" fill="hold">
                      <p:stCondLst>
                        <p:cond delay="indefinite"/>
                      </p:stCondLst>
                      <p:childTnLst>
                        <p:par>
                          <p:cTn id="1021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4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5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0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1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58181-3CA7-4236-8F5C-C45B9823B5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1320" y="357120"/>
            <a:ext cx="8143560" cy="121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Efendimiz şöyle buyurmaktadı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71320" y="1856880"/>
            <a:ext cx="8143560" cy="322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66"/>
                </a:solidFill>
                <a:latin typeface="Calibri"/>
              </a:rPr>
              <a:t>Şayet farzlarından bir şey noksan çıkarsa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66"/>
                </a:solidFill>
                <a:latin typeface="Calibri"/>
              </a:rPr>
              <a:t>Azîz ve Celîl olan Rabb’i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66"/>
                </a:solidFill>
                <a:latin typeface="Calibri"/>
              </a:rPr>
              <a:t>Kulumun nâfile namazları var mı, bakınız? der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66"/>
                </a:solidFill>
                <a:latin typeface="Calibri"/>
              </a:rPr>
              <a:t>Farzların eksiği nafilelerle tamamlanır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66"/>
                </a:solidFill>
                <a:latin typeface="Calibri"/>
              </a:rPr>
              <a:t>Sonra diğer amellerinden de bu şekilde hesaba çekilir.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60215-EED9-4D32-B137-A3ECCFDB38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9640" y="907920"/>
            <a:ext cx="814392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Resûlullah </a:t>
            </a:r>
            <a:r>
              <a:rPr b="0" i="1" lang="tr-TR" sz="2800" spc="-1" strike="noStrike">
                <a:solidFill>
                  <a:srgbClr val="ffff00"/>
                </a:solidFill>
                <a:latin typeface="Calibri"/>
              </a:rPr>
              <a:t>sallallahu aleyhi ve sellem </a:t>
            </a: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şöyle buyurdu</a:t>
            </a:r>
            <a:br>
              <a:rPr sz="32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571320" y="1856880"/>
            <a:ext cx="8143560" cy="365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66ff66"/>
                </a:solidFill>
                <a:latin typeface="Calibri"/>
              </a:rPr>
              <a:t>Kamet bittiğinde Şeytan gelir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66ff66"/>
                </a:solidFill>
                <a:latin typeface="Calibri"/>
              </a:rPr>
              <a:t>ve kişi ile nefsi arasına sokulur ve ona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66ff66"/>
                </a:solidFill>
                <a:latin typeface="Calibri"/>
              </a:rPr>
              <a:t>Filân şeyi hatırla, filân şeyi hatırla diyerek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66ff66"/>
                </a:solidFill>
                <a:latin typeface="Calibri"/>
              </a:rPr>
              <a:t>namazdan önce aklında olmayan şeyler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66ff66"/>
                </a:solidFill>
                <a:latin typeface="Calibri"/>
              </a:rPr>
              <a:t>hatırlatır da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66ff66"/>
                </a:solidFill>
                <a:latin typeface="Calibri"/>
              </a:rPr>
              <a:t>neticede insan kaç rek'at namaz kıldığını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66ff66"/>
                </a:solidFill>
                <a:latin typeface="Calibri"/>
              </a:rPr>
              <a:t>bilemez olu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55513-B5CD-4776-A5D0-1DE3FC46C3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71320" y="357120"/>
            <a:ext cx="8143560" cy="121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500" spc="-1" strike="noStrike">
                <a:solidFill>
                  <a:srgbClr val="ffff00"/>
                </a:solidFill>
                <a:latin typeface="Calibri"/>
              </a:rPr>
              <a:t>Namazdaki Sayahat problemini çözmek için tedavi yoluna gitmek ve nefsimizi namaza hazırlamamız  gerekir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571320" y="1857240"/>
            <a:ext cx="8143560" cy="474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Ömrün .. Hayatın .. Yaşamanın en tatlı anları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Allah’la giçirilen anlardır .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onun içindir ki..    Selam verirken .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Allah’la yeni bir görüşme 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yeni bir buluşma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Ve yeni bir 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geçirme özlemi başlar..Başlamalı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Namazımız Bizim Rebbani Saatımızdı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Günümüze Yön Veren Rehberimizdir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5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0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5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0" dur="5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5" dur="50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0" dur="500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5" dur="500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0" dur="500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5" dur="500"/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75E35-900C-4E4C-989C-B26BBFD83D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71320" y="357120"/>
            <a:ext cx="8143560" cy="121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Namazımız nasıl sağlam olur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571320" y="1857240"/>
            <a:ext cx="8143560" cy="474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Namazımız Allah’ın huzurunua layık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Hale getirmek içi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İçten ve sadikane bir yönte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Gidilmelidi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96472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6B983-CFD6-4ECB-B2AC-1B0A719E9E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71320" y="357120"/>
            <a:ext cx="8143560" cy="121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cc3300"/>
                </a:solidFill>
                <a:latin typeface="Calibri"/>
              </a:rPr>
              <a:t>1-Allah’ın azamatini düşünme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539640" y="1557360"/>
            <a:ext cx="8143920" cy="45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500" spc="-1" strike="noStrike">
                <a:solidFill>
                  <a:srgbClr val="ffff00"/>
                </a:solidFill>
                <a:latin typeface="Calibri"/>
              </a:rPr>
              <a:t>Bilelim ki Ezan Namaza bir çağrıdır.., 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500" spc="-1" strike="noStrike">
                <a:solidFill>
                  <a:srgbClr val="ffff00"/>
                </a:solidFill>
                <a:latin typeface="Calibri"/>
              </a:rPr>
              <a:t>Allah bizi çağırıyor..Allah bizi huzuruna çağırıyor..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500" spc="-1" strike="noStrike">
                <a:solidFill>
                  <a:srgbClr val="ffff00"/>
                </a:solidFill>
                <a:latin typeface="Calibri"/>
              </a:rPr>
              <a:t>Abdest almak , Allah’ın huzuruna gitmek için Yapılan bir hazırlıktır ..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0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Subtitle 2"/>
          <p:cNvSpPr/>
          <p:nvPr/>
        </p:nvSpPr>
        <p:spPr>
          <a:xfrm>
            <a:off x="395280" y="3429000"/>
            <a:ext cx="814392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ffff00"/>
                </a:solidFill>
                <a:latin typeface="Calibri"/>
              </a:rPr>
              <a:t>Mescide doğru giderken .. Allah’ın çağrısına icabettir bu.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ffff00"/>
                </a:solidFill>
                <a:latin typeface="Calibri"/>
              </a:rPr>
              <a:t>İhram tekbiri getirmekle .. Artık Allah’ın huzurundasın sen.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ffff00"/>
                </a:solidFill>
                <a:latin typeface="Calibri"/>
              </a:rPr>
              <a:t>Namaz hareketleri eda ederken bil ki sayılarını ancak Alla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ffff00"/>
                </a:solidFill>
                <a:latin typeface="Calibri"/>
              </a:rPr>
              <a:t>bilen  melekler seninle rukuu eder.. secde eder .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600" spc="-1" strike="noStrike">
                <a:solidFill>
                  <a:srgbClr val="ffff00"/>
                </a:solidFill>
                <a:latin typeface="Calibri"/>
              </a:rPr>
              <a:t>Bil ki Allah’a en yakın anın secdeye kapandığın andır..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0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1F24E-D723-4A93-8BE5-A4207D99F7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1320" y="357120"/>
            <a:ext cx="8143560" cy="121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c000"/>
                </a:solidFill>
                <a:latin typeface="Calibri"/>
              </a:rPr>
              <a:t>2- Şeytan’dan Allah’a sığınıp.. </a:t>
            </a:r>
            <a:br>
              <a:rPr sz="2800"/>
            </a:br>
            <a:r>
              <a:rPr b="0" lang="tr-TR" sz="2800" spc="-1" strike="noStrike">
                <a:solidFill>
                  <a:srgbClr val="ffc000"/>
                </a:solidFill>
                <a:latin typeface="Calibri"/>
              </a:rPr>
              <a:t>İsrarla Huşuu içinde Namazı kılma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571320" y="1856880"/>
            <a:ext cx="8143560" cy="416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99ff"/>
                </a:solidFill>
                <a:latin typeface="Calibri"/>
              </a:rPr>
              <a:t>Osman b. Ebî Âs der ki: </a:t>
            </a: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Rasullullah’a (s.a) 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“</a:t>
            </a: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Şeytan benimle namazım arasına girdi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ve okumamı yanılttı.” dedim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Efendimiz dedi ki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66ff66"/>
                </a:solidFill>
                <a:latin typeface="Calibri"/>
              </a:rPr>
              <a:t> </a:t>
            </a:r>
            <a:r>
              <a:rPr b="0" lang="tr-TR" sz="2800" spc="-1" strike="noStrike">
                <a:solidFill>
                  <a:srgbClr val="66ff66"/>
                </a:solidFill>
                <a:latin typeface="Calibri"/>
              </a:rPr>
              <a:t>O “Hanzep” adında bir şeytandır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66ff66"/>
                </a:solidFill>
                <a:latin typeface="Calibri"/>
              </a:rPr>
              <a:t>Onu hissettiğin an Allah’a (c.c) sığı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66ff66"/>
                </a:solidFill>
                <a:latin typeface="Calibri"/>
              </a:rPr>
              <a:t>“</a:t>
            </a:r>
            <a:r>
              <a:rPr b="0" lang="tr-TR" sz="2800" spc="-1" strike="noStrike">
                <a:solidFill>
                  <a:srgbClr val="66ff66"/>
                </a:solidFill>
                <a:latin typeface="Calibri"/>
              </a:rPr>
              <a:t>Eûzübillahi…”yi oku ve sol tarafına hafifçe tükür!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800" spc="-1" strike="noStrike">
                <a:solidFill>
                  <a:srgbClr val="ffff00"/>
                </a:solidFill>
                <a:latin typeface="Calibri"/>
              </a:rPr>
              <a:t>söylediğini yaptım Allah (c.c) onu benden defetti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0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29T18:33:54Z</dcterms:created>
  <dc:creator>muhsin</dc:creator>
  <dc:description/>
  <dc:language>en-US</dc:language>
  <cp:lastModifiedBy>dr</cp:lastModifiedBy>
  <dcterms:modified xsi:type="dcterms:W3CDTF">2011-04-23T11:52:01Z</dcterms:modified>
  <cp:revision>134</cp:revision>
  <dc:subject/>
  <dc:title>Slide 1</dc:title>
</cp:coreProperties>
</file>